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D1B-984A-4060-A25C-5B742E8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AB9-674D-4183-80C8-3EDD32C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EE1-BA92-427B-BB55-1AAE5094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C9E-8328-4D89-9C19-FE1B75B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EE2-986D-4ED0-A348-F53F185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48B-DF4D-47DE-A1AB-4641D81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2F0-0499-4053-B4AC-070ECB2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FC3-2098-476D-99CC-2FE6593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F65-AB48-4237-A865-2BE2B0DC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212-5CF4-41E3-AE54-F59E29B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984-6520-470B-BA0B-A80543D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1F5-82FB-4590-BDF8-E4FE7DF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40E3-1507-4A01-9F58-6088CD74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4:28:23Z</dcterms:created>
  <dc:creator>CCSD</dc:creator>
  <dc:description/>
  <dc:language>en-US</dc:language>
  <cp:lastModifiedBy>Jenkins, Mark</cp:lastModifiedBy>
  <dcterms:modified xsi:type="dcterms:W3CDTF">2012-03-22T12:48:10Z</dcterms:modified>
  <cp:revision>5</cp:revision>
  <dc:subject/>
  <dc:title>Slide 1</dc:title>
</cp:coreProperties>
</file>